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772-4FA5-4FC1-B35D-7C6A090A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778A-1B36-4865-A013-6D062BD8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917A-3A76-42EE-96D8-2A2520801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3DD-66E1-48F7-862F-C3348CB8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B63-05B3-4A26-BD6B-D1082132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FFF-0616-4CA2-BA54-64E9D27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803E-A378-46C3-A482-93A66129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31D-4FEA-4F20-AF87-45FEC194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88F8-C604-45AD-AB8A-67ACE58C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450-E130-4C00-B91C-5FEF079F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F35-98BE-40E6-854C-BC5C7B12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893D-D034-45BE-AE88-0FB2A316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AA49-D9FC-4ADC-8F8F-70E3B3F2D91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sırlardır kır atımı suladım. </a:t>
            </a:r>
            <a:br>
              <a:rPr sz="55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0" spc="-1" strike="noStrike">
                <a:solidFill>
                  <a:srgbClr val="000099"/>
                </a:solidFill>
                <a:latin typeface="Tahoma"/>
                <a:ea typeface="Tahoma"/>
              </a:rPr>
              <a:t>Deh</a:t>
            </a: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</a:t>
            </a:r>
            <a:r>
              <a:rPr b="1" i="1" lang="pt-BR" sz="8000" spc="-1" strike="noStrike">
                <a:solidFill>
                  <a:srgbClr val="000099"/>
                </a:solidFill>
                <a:latin typeface="Tahoma"/>
                <a:ea typeface="Tahoma"/>
              </a:rPr>
              <a:t>nın onda dokuzu alın teridi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Hititler, eski bir uygarlıktı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unlar, en sevdiğim kitaplarımdı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000099"/>
                </a:solidFill>
                <a:latin typeface="Tahoma"/>
                <a:ea typeface="Tahoma"/>
              </a:rPr>
              <a:t>Al bir ata </a:t>
            </a:r>
            <a:br>
              <a:rPr sz="8000"/>
            </a:br>
            <a:r>
              <a:rPr b="1" i="1" lang="es-ES" sz="8000" spc="-1" strike="noStrike">
                <a:solidFill>
                  <a:srgbClr val="000099"/>
                </a:solidFill>
                <a:latin typeface="Tahoma"/>
                <a:ea typeface="Tahoma"/>
              </a:rPr>
              <a:t>binmiş</a:t>
            </a: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000099"/>
                </a:solidFill>
                <a:latin typeface="Tahoma"/>
                <a:ea typeface="Tahoma"/>
              </a:rPr>
              <a:t>Evin önünde asırlık bir dut ağacı vard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rabaya koştu çocukl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5f1ad"/>
          </a:solidFill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Zabıta, simitçilere göz açtırmıyor.</a:t>
            </a:r>
            <a:br>
              <a:rPr sz="4000"/>
            </a:br>
            <a:br>
              <a:rPr sz="4000"/>
            </a:br>
            <a:r>
              <a:rPr b="1" i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Anılmazdı Veysel adı.</a:t>
            </a:r>
            <a:br>
              <a:rPr sz="4000"/>
            </a:br>
            <a:br>
              <a:rPr sz="4000"/>
            </a:br>
            <a:r>
              <a:rPr b="1" i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Arabamız, yolda güçlükle ilerliyor.</a:t>
            </a:r>
            <a:br>
              <a:rPr sz="4000"/>
            </a:br>
            <a:br>
              <a:rPr sz="4000"/>
            </a:br>
            <a:r>
              <a:rPr b="1" i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Hasta oldum soğuk odalarda.</a:t>
            </a:r>
            <a:br>
              <a:rPr sz="4000"/>
            </a:br>
            <a:br>
              <a:rPr sz="4000"/>
            </a:br>
            <a:r>
              <a:rPr b="1" i="1" lang="tr-TR" sz="4000" spc="-1" strike="noStrike">
                <a:solidFill>
                  <a:srgbClr val="000099"/>
                </a:solidFill>
                <a:latin typeface="Tahoma"/>
                <a:ea typeface="Tahoma"/>
              </a:rPr>
              <a:t> Tutunacak hiçbir dalım kalmad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İlkokulun </a:t>
            </a:r>
            <a:br>
              <a:rPr sz="8000"/>
            </a:b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en zor sınıfı, beşinci sınıftı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Öğretmenim çözer bu soruy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Merak etme se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u dünyanın direği yo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dın yazılacak mücevher taş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nnemin çeyiz sandığını karıştırdım dü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Benim doğduğum </a:t>
            </a:r>
            <a:br>
              <a:rPr sz="8000"/>
            </a:b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köyler güzeld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şını, eşini, işini bil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8:29:09Z</dcterms:modified>
  <cp:revision>101</cp:revision>
  <dc:subject/>
  <dc:title>KONU 1</dc:title>
</cp:coreProperties>
</file>